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28D4A8-BB6F-48D8-9DFC-6CE657CDD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ABF82-D8A1-4BB0-83A8-A59B5AF05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AA48B-D496-4283-B529-4EDEB058E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31718-B69C-422B-B4DD-E116ED012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30D990-D086-4985-A007-CE2A63E3F6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0EE784-D6F3-4A07-BD0F-B0C948FA8B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660759-6063-474E-8960-D9AC65AD40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5A725E-50D1-4B45-8050-4CD8F5331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2E24A-21A2-4642-A880-89757603EF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D57C0A-5287-44F7-A636-0F7C3320B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50465-2D84-4817-A86D-81C69963D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BF32D-A9ED-433B-A989-FC7A444E9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30A9C-C373-4289-A667-FE2EFD83B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03FBC-3DDF-4C9D-AF2B-83D3D0526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5B3C59-D158-4A8B-AFCE-53BC2F3647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4306CB-AFC5-4021-B06F-BC68725687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84A2BB-5AC9-42EB-920B-59BAD4DDE8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F3A476-206E-4FF6-8844-F18F8EF8B6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D511DA-D7EE-46E6-A798-3EE34BFA67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713C2A-3227-4999-8032-2092A67350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A67B50-F757-4303-8C5B-8C02C2487B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06EE4B-B2DF-438F-A0E0-A62CB70444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8758E-FEF1-439F-A063-5DCBE5FE3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AE703E-2AEC-4AFF-99FF-ED9139FF87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0C52D8-3586-492B-9D75-80BB49906D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5EB8C3-A05C-4003-A703-3EE06255B5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BEF5D4-AE7F-4A65-AA6B-5ABACF61EC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F5EB4E-ADFC-413B-89FB-85CA03FB56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C2F729-7D8B-449B-B3CE-A50A6969A1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C8EFB5-1D89-4A28-B08B-1993EAFC6C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CA8FFC-5F2A-446B-A12C-86A8B740F1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3F690D-D5F5-4759-8DCC-4F08E53606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E768CB-08A6-49B1-849A-D397191263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8C1F4-0AA9-4280-9954-8CC0FC9E4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49F85F-E35D-448D-A855-7711E4F91B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76A3A8-7C62-47AC-930D-9BDEDE0D40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53DF3F-76FB-4ED1-BED3-26C986D4E4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02AFEC-A9D6-4376-900E-C343F2E42A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61D769-7C7E-4EC5-A674-C4CC4E35B9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5EE824-9979-4405-BCBF-4F3AD13FA5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150DA0-CE8B-497F-8F85-4D56501948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E3B503-9E13-49C2-9E66-A55B2E00DC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6E4BAA-1533-409A-A0B1-D284E849AC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488A8-1F57-4CD2-8AB2-A4A131C9C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B8292-CCED-45FD-A972-506A5FCFC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0787D-54D7-4584-B58A-80A4AB691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FD3A4-55FF-4D30-BDC2-CD77A447D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0F1D7-67FE-47F0-819D-D5FE8D9585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4404D-9268-42CF-8AEA-61C7F5215220}" type="slidenum">
              <a:rPr b="0" lang="en-CA"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10875-30E8-49AD-AA42-E824B9C57109}" type="slidenum">
              <a:rPr b="0" lang="en-C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DCEEA-7E3B-4812-94FD-238C8C9F725E}" type="slidenum">
              <a:rPr b="0" lang="en-C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770A1-C23B-4EBC-B26A-E19F5EC9595C}" type="slidenum">
              <a:rPr b="0" lang="en-C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365120"/>
            <a:ext cx="8308800" cy="19018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olitical Empowerment</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athers of Confederation</a:t>
            </a:r>
            <a:endParaRPr b="0" lang="en-US" sz="5000" spc="-1" strike="noStrike">
              <a:solidFill>
                <a:srgbClr val="04617b"/>
              </a:solidFill>
              <a:latin typeface="Calibri"/>
            </a:endParaRPr>
          </a:p>
        </p:txBody>
      </p:sp>
      <p:pic>
        <p:nvPicPr>
          <p:cNvPr id="214" name="Picture 4" descr="http://data2.collectionscanada.gc.ca/ap/c/c000733.jpg"/>
          <p:cNvPicPr/>
          <p:nvPr/>
        </p:nvPicPr>
        <p:blipFill>
          <a:blip r:embed="rId1"/>
          <a:stretch/>
        </p:blipFill>
        <p:spPr>
          <a:xfrm>
            <a:off x="1371600" y="2057400"/>
            <a:ext cx="6400800" cy="4362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5000" spc="-1" strike="noStrike">
                <a:solidFill>
                  <a:srgbClr val="04617b"/>
                </a:solidFill>
                <a:latin typeface="Calibri"/>
              </a:rPr>
              <a:t>Confederation, July 1, 1867</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 this date Canada became a country with four provinces.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ew Brunswick</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va Scotia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tari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Quebec.</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haping of Canada</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oday Canada is the second-largest country in the world. </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t has an area of almost 10 000 000 square kilometres.</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t is made up of ten </a:t>
            </a:r>
            <a:r>
              <a:rPr b="0" lang="en-US" sz="2600" spc="-1" strike="noStrike">
                <a:solidFill>
                  <a:srgbClr val="04617b"/>
                </a:solidFill>
                <a:latin typeface="Constantia"/>
              </a:rPr>
              <a:t>provinces</a:t>
            </a:r>
            <a:r>
              <a:rPr b="0" lang="en-US" sz="2600" spc="-1" strike="noStrike">
                <a:solidFill>
                  <a:srgbClr val="000000"/>
                </a:solidFill>
                <a:latin typeface="Constantia"/>
              </a:rPr>
              <a:t> and three </a:t>
            </a:r>
            <a:r>
              <a:rPr b="0" lang="en-US" sz="2600" spc="-1" strike="noStrike">
                <a:solidFill>
                  <a:srgbClr val="04617b"/>
                </a:solidFill>
                <a:latin typeface="Constantia"/>
              </a:rPr>
              <a:t>territories</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ada became a country on July 1</a:t>
            </a:r>
            <a:r>
              <a:rPr b="0" lang="en-US" sz="2600" spc="-1" strike="noStrike" baseline="30000">
                <a:solidFill>
                  <a:srgbClr val="000000"/>
                </a:solidFill>
                <a:latin typeface="Constantia"/>
              </a:rPr>
              <a:t>st</a:t>
            </a:r>
            <a:r>
              <a:rPr b="0" lang="en-US" sz="2600" spc="-1" strike="noStrike">
                <a:solidFill>
                  <a:srgbClr val="000000"/>
                </a:solidFill>
                <a:latin typeface="Constantia"/>
              </a:rPr>
              <a:t>,  1867.</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haping of Canada</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the 1500s explorers from Europe came to North America to claim land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y realized that this land was rich in resource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on settlement began, with people seeking a new life in the new world.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two European countries that figured the most in North America were </a:t>
            </a:r>
            <a:r>
              <a:rPr b="0" lang="en-US" sz="2600" spc="-1" strike="noStrike">
                <a:solidFill>
                  <a:srgbClr val="04617b"/>
                </a:solidFill>
                <a:latin typeface="Constantia"/>
              </a:rPr>
              <a:t>Britain </a:t>
            </a:r>
            <a:r>
              <a:rPr b="0" lang="en-US" sz="2600" spc="-1" strike="noStrike">
                <a:solidFill>
                  <a:srgbClr val="000000"/>
                </a:solidFill>
                <a:latin typeface="Constantia"/>
              </a:rPr>
              <a:t>and </a:t>
            </a:r>
            <a:r>
              <a:rPr b="0" lang="en-US" sz="2600" spc="-1" strike="noStrike">
                <a:solidFill>
                  <a:srgbClr val="04617b"/>
                </a:solidFill>
                <a:latin typeface="Constantia"/>
              </a:rPr>
              <a:t>France</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5000" spc="-1" strike="noStrike">
                <a:solidFill>
                  <a:srgbClr val="04617b"/>
                </a:solidFill>
                <a:latin typeface="Calibri"/>
              </a:rPr>
              <a:t>Why Confederation?</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the 1860s the British colonies were facing many different kinds of problems.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e solution for all of these was for the colonies to come together to form one country.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se are the problems that led to Confederat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5000" spc="-1" strike="noStrike">
                <a:solidFill>
                  <a:srgbClr val="04617b"/>
                </a:solidFill>
                <a:latin typeface="Calibri"/>
              </a:rPr>
              <a:t>#1:  Political problems:</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Province of Canada was made into the provinces of Ontario and Quebec.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government of the Province of Canada did not run smoothly because the English-speaking and French-speaking halves had different ideas about how things should be ru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5000" spc="-1" strike="noStrike">
                <a:solidFill>
                  <a:srgbClr val="04617b"/>
                </a:solidFill>
                <a:latin typeface="Calibri"/>
              </a:rPr>
              <a:t>#2:  Economic problems</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order for their economies to do well, the colonies needed to be able to sell their goods to other markets.</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t this time there were very few places that they could sell to. </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e solution was to bring all the colonies together. In this way they could more easily sell their goods to each othe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3:  </a:t>
            </a:r>
            <a:r>
              <a:rPr b="1" lang="en-CA" sz="5000" spc="-1" strike="noStrike">
                <a:solidFill>
                  <a:srgbClr val="04617b"/>
                </a:solidFill>
                <a:latin typeface="Calibri"/>
              </a:rPr>
              <a:t>Military problems</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merica had fought Britain to gain its independenc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ritain supported the South in the American Civil W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North won the war and was angry at Britain for helping the South.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ny Americans wanted to take over all of what is now Canad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3:  </a:t>
            </a:r>
            <a:r>
              <a:rPr b="1" lang="en-CA" sz="5000" spc="-1" strike="noStrike">
                <a:solidFill>
                  <a:srgbClr val="04617b"/>
                </a:solidFill>
                <a:latin typeface="Calibri"/>
              </a:rPr>
              <a:t>Military problems</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eanwhile, Britain didn't want to have to pay for the cost of defending its colonies. It decided to encourage the colonies to join together, because the United States would be less likely to attack Canada if it were a self-governing country rather than separate colonies of Britain. The fear of the United States helped to strengthen the call for Confeder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On The Road to Confederation</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lIns="90000" rIns="90000" tIns="46800" bIns="46800" anchor="t">
            <a:normAutofit fontScale="94000"/>
          </a:bodyPr>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re were 3 conferences that led to Confederation</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1:  The Charlottetown Conference</a:t>
            </a:r>
            <a:r>
              <a:rPr b="0" lang="en-US" sz="2600" spc="-1" strike="noStrike">
                <a:solidFill>
                  <a:srgbClr val="000000"/>
                </a:solidFill>
                <a:latin typeface="Constantia"/>
              </a:rPr>
              <a:t>, The politicians from the Province of Canada convinced the politicians from New Brunswick, Nova Scotia and Prince Edward Island to consider a larger union. </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2:  The Quebec Conference</a:t>
            </a:r>
            <a:r>
              <a:rPr b="0" lang="en-US" sz="2600" spc="-1" strike="noStrike">
                <a:solidFill>
                  <a:srgbClr val="000000"/>
                </a:solidFill>
                <a:latin typeface="Constantia"/>
              </a:rPr>
              <a:t>, During this conference the leaders had to work out how the new country would be run.</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3:  The London Conference</a:t>
            </a:r>
            <a:r>
              <a:rPr b="0" lang="en-US" sz="2600" spc="-1" strike="noStrike">
                <a:solidFill>
                  <a:srgbClr val="000000"/>
                </a:solidFill>
                <a:latin typeface="Constantia"/>
              </a:rPr>
              <a:t>, They came up with a final agreement. The document they created was called the </a:t>
            </a:r>
            <a:r>
              <a:rPr b="1" i="1" lang="en-US" sz="2600" spc="-1" strike="noStrike">
                <a:solidFill>
                  <a:srgbClr val="000000"/>
                </a:solidFill>
                <a:latin typeface="Constantia"/>
              </a:rPr>
              <a:t>British North America Act</a:t>
            </a:r>
            <a:r>
              <a:rPr b="0" lang="en-US" sz="2600" spc="-1" strike="noStrike">
                <a:solidFill>
                  <a:srgbClr val="000000"/>
                </a:solidFill>
                <a:latin typeface="Constantia"/>
              </a:rPr>
              <a: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7T15:20:07Z</dcterms:created>
  <dc:creator>ladmin</dc:creator>
  <dc:description/>
  <dc:language>en-US</dc:language>
  <cp:lastModifiedBy>ladmin</cp:lastModifiedBy>
  <dcterms:modified xsi:type="dcterms:W3CDTF">2011-02-07T15:44:13Z</dcterms:modified>
  <cp:revision>3</cp:revision>
  <dc:subject/>
  <dc:title>Confederation</dc:title>
</cp:coreProperties>
</file>